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4F5-1642-440F-9016-FCE1176B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57A-C49E-4EA5-8510-BEAF042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658-AC50-45FC-B42C-F1728EF8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6DE-4503-4F7E-A5B6-B2C11EC5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F5A-E598-4BA4-B8F2-57921262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D4D-F964-416B-A3E7-5DC3BF37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8CA-DF1D-4538-9FF0-014D36B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CD3-D6D7-47B6-958A-3D175BA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474-F125-40F0-8AA6-0809009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ED0-67DF-4987-B765-53B0D13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E74-98B8-4F16-885F-05931E2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42D-CF25-487D-90FA-4037428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089F-74A9-4956-A525-E693350B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a.gov/air/caa/" TargetMode="External"/><Relationship Id="rId2" Type="http://schemas.openxmlformats.org/officeDocument/2006/relationships/hyperlink" Target="http://www.epa.gov/air/caa/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adiangeographic.com/atlas/themes.aspx?id=SHIELD&amp;sub=SHIELD_FEATURES_DELUGE&amp;lang=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04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ebekah Elm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39000">
            <a:off x="380880" y="609480"/>
            <a:ext cx="3524400" cy="231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997200">
            <a:off x="5638320" y="3733560"/>
            <a:ext cx="3081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se are the most polluted places in the world since they are industrialized and have a careless attitude towards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polluted places in the world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erzin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we, Za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a, Dominican Re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3733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dnaya Pristan and Dalnegor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uu-Suu, Kyrgy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ecojunk.wordpress.com"/>
          <p:cNvPicPr/>
          <p:nvPr/>
        </p:nvPicPr>
        <p:blipFill>
          <a:blip r:embed="rId1"/>
          <a:stretch/>
        </p:blipFill>
        <p:spPr>
          <a:xfrm rot="459600">
            <a:off x="5867280" y="4495320"/>
            <a:ext cx="2990880" cy="194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248520" y="6461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ilsk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Blacksmith Institute"/>
          <p:cNvPicPr/>
          <p:nvPr/>
        </p:nvPicPr>
        <p:blipFill>
          <a:blip r:embed="rId2"/>
          <a:stretch/>
        </p:blipFill>
        <p:spPr>
          <a:xfrm rot="21069000">
            <a:off x="228600" y="4419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ipet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Blacksmith Institute"/>
          <p:cNvPicPr/>
          <p:nvPr/>
        </p:nvPicPr>
        <p:blipFill>
          <a:blip r:embed="rId3"/>
          <a:stretch/>
        </p:blipFill>
        <p:spPr>
          <a:xfrm rot="259200">
            <a:off x="2971800" y="3657600"/>
            <a:ext cx="2914560" cy="1933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rova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6 Chernobyl Ukraine had a nuclear disaster which left the area uninhabi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fen China, air quality is poor due to the burning of c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op-10-list.org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iccpurpleclass.blogspot.com"/>
          <p:cNvPicPr/>
          <p:nvPr/>
        </p:nvPicPr>
        <p:blipFill>
          <a:blip r:embed="rId2"/>
          <a:stretch/>
        </p:blipFill>
        <p:spPr>
          <a:xfrm>
            <a:off x="1143000" y="3429000"/>
            <a:ext cx="2530440" cy="294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most polluted c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kersfield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, 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no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mingham,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oit,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smog"/>
          <p:cNvPicPr/>
          <p:nvPr/>
        </p:nvPicPr>
        <p:blipFill>
          <a:blip r:embed="rId1"/>
          <a:stretch/>
        </p:blipFill>
        <p:spPr>
          <a:xfrm>
            <a:off x="4343400" y="22096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,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concern in the eastern half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industrialized and urbanized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ed area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891600">
            <a:off x="3596760" y="2080800"/>
            <a:ext cx="510552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reas affe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section of Canada (Toronto-Hamilto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danavia (Sweden, Norway, Fin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(India and 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825000">
            <a:off x="5638680" y="4343040"/>
            <a:ext cx="3087720" cy="217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0625600">
            <a:off x="3962520" y="1295280"/>
            <a:ext cx="3809880" cy="335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9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roblem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tion in eyes, nose, and thr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c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80920" y="838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respirato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 to brain, nerves, liver or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21261000">
            <a:off x="533160" y="403848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393600">
            <a:off x="5486400" y="4419720"/>
            <a:ext cx="3290760" cy="2192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id Rai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vironment.nationalgeographic.com/environment/global-warming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acid-rain-overview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id Rain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ngelfire.com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angelfire.com/ks3/acidrainreport/acid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ir Po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.wikipedia.org/wiki/Air_pollution#Pollutants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Clean Air Act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air/caa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od Up High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3 Sept. 2009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oar/oaqps/gooduphigh/good.html#1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ow can air pollution hurt my health?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SI 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2010. &lt;http://www.lbl.gov/Education/ELSI/Frames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pollution-health-effects-f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Indoor and Outdoor Air Pol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ELS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lbl.gov/Education/ELSI/pollution-main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articulate Matter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5 Jan. 2009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Web. 18 Feb. 2010. &lt;http://www.epa.gov/oar/particlepollution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ittsburgh and Los Angeles the Most Polluted US Citie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ty May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7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May 2009. Web. 18 Feb. 2010. &lt;http://www.citymayors.com/environment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polluted_uscitie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econdary Pollutant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Ra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cience.jrank.org/pages/6028/Secondary-Pollutant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lfe, Elizabeth. "The 10 Most Polluted Cities in the World.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yiamgreen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09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ayiamgreen.com/blog/2009/09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the-10-most-polluted-cities-in-the-world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ds, Sable. "What Region of the United States Is Most Affected by Acid Rain?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ho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10. Web. 18 Feb. 2010. &lt;http://www.ehow.com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facts_4965252_united-states-affected-acid-rain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oxic chemicals into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natur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 in living th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primary, secondary, and particulate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5392800"/>
            <a:ext cx="20574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143000"/>
            <a:ext cx="6172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ission of substances directly into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-release 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-carbon mon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-sulfur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444000">
            <a:off x="5562720" y="4266720"/>
            <a:ext cx="3276360" cy="226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12200">
            <a:off x="228600" y="1676520"/>
            <a:ext cx="2514600" cy="217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36200">
            <a:off x="990360" y="403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mitted directly to the air, water, o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primary pollutants react in the atmosp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ynthesized in the environmen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such as nitroge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ted chemicals such as ozone (gas &amp; strong oxid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ixture of small particles and liquid dropl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particle pol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ble coarse p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1492800">
            <a:off x="5867280" y="2209320"/>
            <a:ext cx="23637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zone is a gas that helps protect Earth from UV-Rad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substance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am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sol Propell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Ozone - Too  Much Here Too Little There"/>
          <p:cNvPicPr/>
          <p:nvPr/>
        </p:nvPicPr>
        <p:blipFill>
          <a:blip r:embed="rId1"/>
          <a:stretch/>
        </p:blipFill>
        <p:spPr>
          <a:xfrm rot="675000">
            <a:off x="4800600" y="2971440"/>
            <a:ext cx="38289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743200"/>
            <a:ext cx="83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orm of precipitation with high levels of nitric and sulfur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ccurs in the form of snow and f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auses are from the burning of fossil fuels, rotting vegetation, and erupting volcan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Rain effec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s into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s 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adiangeographic.com/atlas/themes.aspx?id=SHIELD&amp;sub=SHIELD_FEATURES_DELUGE&amp;lang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hoto: Spruce forest damaged by acid rain, Poland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625400">
            <a:off x="6735240" y="398520"/>
            <a:ext cx="1733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ean Air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law designed to protect, improve, and regulate the nation’s ai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eated in 197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tratospheric ozone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public well-b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930400">
            <a:off x="5410080" y="1295280"/>
            <a:ext cx="3467160" cy="231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122600">
            <a:off x="5486400" y="3580920"/>
            <a:ext cx="312408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18:04Z</dcterms:created>
  <dc:creator>sasd</dc:creator>
  <dc:description/>
  <dc:language>en-US</dc:language>
  <cp:lastModifiedBy>SASD</cp:lastModifiedBy>
  <dcterms:modified xsi:type="dcterms:W3CDTF">2010-02-19T16:38:08Z</dcterms:modified>
  <cp:revision>40</cp:revision>
  <dc:subject/>
  <dc:title>Air Pollution</dc:title>
</cp:coreProperties>
</file>